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85A14-36F7-484A-BA75-7D8724E018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26E50-A5A5-4046-A12B-BB504D58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F8ACF-56BC-496D-9FED-B5AD5742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EF091-C59E-4061-8560-26485BF2D7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5B25B-B6B1-43AD-B78D-2511E5B1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A707F-F6EE-4B91-8213-EBC65D55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83E91-6F6E-461E-86CA-6ECBE5A9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4B983-0601-4859-8F83-309F04A7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42207-78BC-43CB-AE00-4C1821F5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9F4CE-1E18-4AFC-A8C4-754236D1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11218-7CCD-4AC4-A7DA-511BE0A4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523F1-1FCE-4EDF-9040-A864B318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1135-AC72-4515-8B9C-F8EDD51E51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  精神科护理的基本技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王国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1258920" y="117792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1258920" y="2205000"/>
            <a:ext cx="60498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与不同精神症状患者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妄想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有攻击行为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抑郁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木僵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异性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1835280" y="10335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116000" y="192888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护士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1116000" y="2997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患者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1152360" y="406728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沟通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152360" y="514836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755640" y="227664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观察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了解患者身心状况，为制订护理计划提供依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掌握病情，供医生确立诊断及评价治疗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为护理教学、科研积累资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意外事件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1835280" y="112068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1042920" y="2924280"/>
            <a:ext cx="3097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观察的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直接观察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间接观察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4572000" y="2852640"/>
            <a:ext cx="4572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观察的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目的性、计划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客观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整体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2"/>
          <p:cNvSpPr/>
          <p:nvPr/>
        </p:nvSpPr>
        <p:spPr>
          <a:xfrm>
            <a:off x="1116000" y="2274840"/>
            <a:ext cx="35272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观察的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一般情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精神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躯体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心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3062160" y="13413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4572000" y="2924280"/>
            <a:ext cx="4572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治疗情况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社会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家庭支持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1908000" y="1120680"/>
            <a:ext cx="60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900000" y="1841400"/>
            <a:ext cx="755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记录的方式与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护理评估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一级评估（重病室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二级评估（主班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三级评估（主管或护士长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住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出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健康教育评估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指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206064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记录内容必须及时、准确、客观真实、简明扼要，必要时将患者的原话记录下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项目齐全，字迹清晰，禁止涂改，书写过程中出现错误时按统一规定修改后签名，并正确使用专业术语，记录完成后签护士全名并注明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根据患者病情决定记录时间及频率，病情变化随时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注意时效性，不可延迟或提前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8"/>
          <p:cNvSpPr/>
          <p:nvPr/>
        </p:nvSpPr>
        <p:spPr>
          <a:xfrm>
            <a:off x="3307320" y="1125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（二）记录的要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900000" y="41911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、睡眠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900000" y="51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、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1042920" y="2349360"/>
            <a:ext cx="655344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精神障碍患者往往生活懒散，日常生活自理能力下降或丧失，护士应帮助、督促和鼓励患者做好日常生活护理，并注意培养患者生活自理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41264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接触精神障碍患者的方法和精神科护理的基本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理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道与精神障碍患者进行有效的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实施对精神障碍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运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与精神障碍患者建立良好的护患关系的基础上，对患者实施全面的观察，根据患者的管理要求完成对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1116000" y="1484280"/>
            <a:ext cx="684072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卫生处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日常生活护理计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协助督促患者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晨晚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泄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755640" y="1916280"/>
            <a:ext cx="7993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障碍患者因受症状影响可出现各种饮食障碍，如拒食、厌食、异食、暴饮暴食等，同时精神科药物的副作用可引起患者吞咽困难、噎食等，因此，护士应认真做好患者的饮食护理，保证患者营养摄入充足，各项治疗顺利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2"/>
          <p:cNvSpPr/>
          <p:nvPr/>
        </p:nvSpPr>
        <p:spPr>
          <a:xfrm>
            <a:off x="1403280" y="1341360"/>
            <a:ext cx="67690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就餐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维持就餐秩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拒食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因被害妄想、疑心饭菜有毒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有罪恶妄想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疑病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于木僵、紧张综合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矩形 2"/>
          <p:cNvSpPr/>
          <p:nvPr/>
        </p:nvSpPr>
        <p:spPr>
          <a:xfrm>
            <a:off x="1403280" y="2133720"/>
            <a:ext cx="6337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厌食的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暴饮暴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异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老年患者的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三、睡眠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539640" y="1773360"/>
            <a:ext cx="8245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多数精神障碍患者在发病前或发病时出现睡眠障碍，睡眠的正常与否往往预示病情的好转、波动或恶化。严重的失眠可使患者产生焦虑、抑郁、烦躁，导致病情恶化。护士应该密切观察患者的睡眠情况，采取有效措施，保证患者充足的睡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2"/>
          <p:cNvSpPr/>
          <p:nvPr/>
        </p:nvSpPr>
        <p:spPr>
          <a:xfrm>
            <a:off x="1692360" y="1628640"/>
            <a:ext cx="493056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合理安排作息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前避免兴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眠障碍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-360" y="1844280"/>
            <a:ext cx="88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精神障碍患者由于受到精神症状的影响常出现冲动伤人、自杀、自伤、毁物等破坏性行为或外走等，患者大剂量服用抗精神障碍药物，药物副作用可导致肌张力增高或运动不能等锥体外系症状，使患者容易晕倒或摔倒，药物还可引起吞咽困难，导致噎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1332000" y="98100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四、安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0" y="1371600"/>
            <a:ext cx="9144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-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女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会计。患者平日工作认真负责，谨小慎微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0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底，单位领导在年终总结大会上提出要对财务工作进行审核。当晚患者难以入眠。随后逐渐变得少言寡语，闷闷不乐，经常自言自语：“我有罪” “我贪污” “我不该吃饭” “我该枪毙”等（经核实，患者从未贪污犯罪）。患者少食少动并有自杀经历，被家人及时发现送医院就诊。急诊医生建议家属送患者去精神科就诊。随后在某精神科门诊确诊为：抑郁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1773000"/>
            <a:ext cx="7921440" cy="45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二）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掌握患者的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巡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病区环境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危险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安全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重症及高风险患者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4360" y="2133360"/>
            <a:ext cx="74880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四节  精神障碍患者的组织与管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1763640" y="386064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患者的组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1763640" y="494172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179280" y="206064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一节    与精神障碍患者的接触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护患关系的建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826920" y="3357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826920" y="4437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900000" y="5445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四节    精神障碍患者的组织与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2195640" y="26028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</a:rPr>
              <a:t>目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一、患者的组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病房的组织管理应该在病房护士长的领导下，由专职护士具体负责，建立以患者为主体的小组。患者的组织可根据病区内患者情况组织休养小组或康复小组，进行分层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4000" y="2565360"/>
            <a:ext cx="8610480" cy="36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封闭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便于组织管理、观察和照顾精神障碍患者，有效预防意外事件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精神障碍急性期、严重的冲动、伤人、毁物、自杀自伤及病情波动无自知力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制订相关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重视心理护理和人文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排丰富的工娱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95280" y="2276640"/>
            <a:ext cx="84312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锻炼和培养患者的社会适应能力，满足患者的心理需要，调动患者的积极性和主动性，提高患者生活的信心，促进康复，帮助患者逐步达到生活自理，适应正常社会环境，早日回归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病情稳定、康复期等待出院、安心住院积极配合治疗并自觉遵守各项纪律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916280"/>
            <a:ext cx="86104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开放式管理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半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及病情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病情评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完善规章制度，强化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加强患者行为管理和健康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1332000" y="1916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</a:rPr>
              <a:t>三、精神科的分级护理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900000" y="3357720"/>
            <a:ext cx="7128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科分级护理是根据患者病情轻重和对自身、他人及周围环境安全的影响程度分为特级护理及一、二、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1700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精神障碍伴有严重躯体疾病，病情危重，随时可能有生命危险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严重的自杀自伤、冲动伤人及外逃行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因精神药物引起严重不良反应，出现危象、危及生命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意识障碍；木僵患者；严重的痴呆、抑郁、躁狂状态；癫痫持续状态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1484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专人护理，严密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做好基础护理，每日进行晨晚间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证患者每日入量；加强导管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格掌握约束的适应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备好急救物品及药品，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，详细记录各项护理治疗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26828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症状急性期；严重药物副反应；生活可以部分自理，但病情随时可能有变化；特殊治疗需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有自杀自伤、冲动、走失倾向的患者；严重药物副作用的患者；严重躯体合并症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严防摔伤、约束的患者；病情波动较大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除上述情况外的一级护理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170000"/>
            <a:ext cx="89344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-1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女性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工人。因睡眠差、多疑、行为紊乱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，加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就诊。患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由于离婚逐渐出现精神失常，主要表现为睡眠明显减少，有时甚至彻夜不眠。家人未在意。后来出现多疑，认为周围的人说话是在议论她，有人想害她，自己的饭菜中都被别人下了毒药，认为自己想的事情，即使不说别人也会知道，经常面对墙壁自言自语。情绪差，经常发脾气，说自己活得痛苦想自伤。因睡眠差，言行紊乱，不断与家人发生冲突，被送入院。入院后检查无阳性体征。精神检查：患者在家人陪同下步入病房，衣着整齐，貌龄相当。入院后患者多独处，很少与人接触。对检查、治疗、护理被动服从，生活能自理，睡眠差，饮食差。患者意识清晰，定向力完整，解除被动，有明显的被害妄想、关系妄想、被洞悉感，情感淡漠，意志活动减退，行为懒散，无自知力。临床诊断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4000" y="148392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将患者安置在护士易于观察的病室，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巡视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给予或协助生活护理，每日进行晨晚间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保证入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对约束的患者，严格执行约束制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缓解期，生活能自理，轻度痴呆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帮助或协助患者提高生活自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协助功能训练及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恢复期，躯体症状缓解，生活能自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协助患者的生活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指导患者进行功能训练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无明显诱因出现认为父母、丈夫、同事等所有的人都不喜欢她，认为家里人想算计她，同事想害她。认为别人说话都是针对她，故意气她，因此，经常与家人和同事发生口角和冲突。患者认为丈夫想害死她好独占家产。于某日凌晨丈夫熟睡时，拿菜刀砍伤丈夫头部，之后由家人强制送入医院。入院后患者情绪激动，表情紧张，不断地叫喊、谩骂，对所有的人都非常敌视，不合作，对医护人员的问话不予理睬，否认自己患有精神疾病，说丈夫要害死她，所以自己先下手，并要求警察把她丈夫抓起来保证自己的安全，患者反复要求出院，拒食拒药，反复劝说无效。诊断为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请分析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通过护理评估，列出患者的主要精神症状及护理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如何为该患者实施基础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900000" y="2492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900000" y="3284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900000" y="4292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900000" y="515772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539640" y="1197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一节     与精神障碍患者的接触和护患关系的建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1332000" y="10526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900000" y="198900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概念：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护士运用护理和心理学的理论和技术，应用语言和非语言沟通技巧向精神障碍患者提供专业服务，使之恢复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468360" y="3860640"/>
            <a:ext cx="799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意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尊重患者，发展信任关系，为建立良好的护患关系打基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收集资料，为共同商讨治疗护理措施做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向患者提供健康教育和心理支持，提高自我护理的能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1835280" y="981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1116000" y="192888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）掌握患者的基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疾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116000" y="3424320"/>
            <a:ext cx="51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）建立护患关系的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正确认识精神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尊重患者人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设身处地为患者考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致性与持续性的态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加强自身修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1116000" y="11048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1619280" y="2205000"/>
            <a:ext cx="51134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治疗性沟通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保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以患者为中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相应的护理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尊重和接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过多的自我暴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矩形 2"/>
          <p:cNvSpPr/>
          <p:nvPr/>
        </p:nvSpPr>
        <p:spPr>
          <a:xfrm>
            <a:off x="1979640" y="2349360"/>
            <a:ext cx="52387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治疗性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沟通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善于引导启发患者谈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有效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非语言沟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适当的沉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4668120" y="14130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00Z</dcterms:created>
  <dc:creator>zhang7</dc:creator>
  <dc:description/>
  <dc:language>en-US</dc:language>
  <cp:lastModifiedBy>dell</cp:lastModifiedBy>
  <cp:lastPrinted>2411-12-30T00:00:00Z</cp:lastPrinted>
  <dcterms:modified xsi:type="dcterms:W3CDTF">2015-12-31T07:04:21Z</dcterms:modified>
  <cp:revision>7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